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D00-84CE-4528-BE69-4997F316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E65-8F68-429B-8624-E1DAE7A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FE0-D741-434A-B14D-CCE10CDD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0D9-FEBA-4D15-8C5A-A9C469A9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17F-D7A4-4055-91B2-789C9E25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840-A64D-4EA2-A022-B19F4719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D8A-7EC8-4D0C-86ED-83CAF32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D8C-7238-4E36-BA78-66AA3E1C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834-1F2E-4F7F-8162-0BEA4CA2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4F7-C174-4701-AAE8-9DEA7377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9A3-AF59-4951-8AD8-F836CFD1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B9A-7909-4299-9462-DD818BE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479C-E133-4A89-B3F4-2F99B6E639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e llamo __________ Clase 6 NH (601)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La fecha es el 5 de noviembre del 2012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a219"/>
                </a:solidFill>
                <a:latin typeface="Arial"/>
              </a:rPr>
              <a:t>Proposito 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¿Cual es la diferencia entre Halloween y El dia de los muert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a219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ar las presentaciones de PowerPoint y tomar notas activas en el cuader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r el articul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 muralismo mexica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ezar el PROYECTO 1: MI CAL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a219"/>
                </a:solidFill>
                <a:latin typeface="Arial"/>
              </a:rPr>
              <a:t>Tarea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inar el proyecto.  Entrega el mierc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38:15Z</dcterms:created>
  <dc:creator>Helen Zumaeta</dc:creator>
  <dc:description/>
  <dc:language>en-US</dc:language>
  <cp:lastModifiedBy>Helen Zumaeta</cp:lastModifiedBy>
  <dcterms:modified xsi:type="dcterms:W3CDTF">2012-11-02T19:38:36Z</dcterms:modified>
  <cp:revision>5</cp:revision>
  <dc:subject/>
  <dc:title>Me llamo __________ Clase 6 NH La fecha es el 2 de noviembre del 2011</dc:title>
</cp:coreProperties>
</file>